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F5BA-F404-46E3-9CDF-990BB302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9FB3-1242-48FB-85C3-A5F143EB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8D55-112F-4E42-BCAE-9ADAC6F6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6C8B-951E-4510-B4F2-E1E2D43E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D37C-9572-4FA5-B5A9-8D5C4F41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74CC-90FC-4494-B342-F94D7151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D37A-2C77-46B9-8C28-ED9AE26A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0E15-9100-494B-89C7-443F3EF0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97BB-DC6A-467E-84CD-2D655BC1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6850-D172-4160-A121-A93C45E3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A261-F460-47B8-B01A-1182DD8C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8499-32C5-4AE0-9655-AF14402C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91D5-EAC2-4831-8671-5E4E3F57F0D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250920" y="1262160"/>
            <a:ext cx="8646840" cy="5262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مربع نص 1"/>
          <p:cNvSpPr/>
          <p:nvPr/>
        </p:nvSpPr>
        <p:spPr>
          <a:xfrm>
            <a:off x="395280" y="3244680"/>
            <a:ext cx="553248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مربع نص 1"/>
          <p:cNvSpPr/>
          <p:nvPr/>
        </p:nvSpPr>
        <p:spPr>
          <a:xfrm>
            <a:off x="395280" y="4181400"/>
            <a:ext cx="5532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مربع نص 1"/>
          <p:cNvSpPr/>
          <p:nvPr/>
        </p:nvSpPr>
        <p:spPr>
          <a:xfrm>
            <a:off x="395280" y="4902120"/>
            <a:ext cx="55324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مربع نص 1"/>
          <p:cNvSpPr/>
          <p:nvPr/>
        </p:nvSpPr>
        <p:spPr>
          <a:xfrm>
            <a:off x="395280" y="5621400"/>
            <a:ext cx="5532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8" name="مربع نص 1"/>
          <p:cNvSpPr/>
          <p:nvPr/>
        </p:nvSpPr>
        <p:spPr>
          <a:xfrm>
            <a:off x="250920" y="220500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صبر الرسول صلى الله عليه وسلم على دعوة كفار قريش إلى الإسلام (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0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) سنو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822840" y="1052640"/>
            <a:ext cx="50655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-22320" y="95580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3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271520" y="1700280"/>
            <a:ext cx="75852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324000" y="350028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نعم . لا بد أن يكون الإنفاق متواز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8545680" cy="1194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4"/>
          <a:stretch/>
        </p:blipFill>
        <p:spPr>
          <a:xfrm>
            <a:off x="3492360" y="2924280"/>
            <a:ext cx="5359680" cy="546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5"/>
          <a:stretch/>
        </p:blipFill>
        <p:spPr>
          <a:xfrm>
            <a:off x="3851280" y="4149720"/>
            <a:ext cx="5041800" cy="5842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324000" y="479736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عقوبة في الدنيا والا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324000" y="2276640"/>
            <a:ext cx="856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ظيم لشان الوالدين والإحسان إليهما والنهي عن عقوقهم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1" descr=""/>
          <p:cNvPicPr/>
          <p:nvPr/>
        </p:nvPicPr>
        <p:blipFill>
          <a:blip r:embed="rId6"/>
          <a:stretch/>
        </p:blipFill>
        <p:spPr>
          <a:xfrm>
            <a:off x="4524480" y="5381640"/>
            <a:ext cx="4368600" cy="495360"/>
          </a:xfrm>
          <a:prstGeom prst="rect">
            <a:avLst/>
          </a:prstGeom>
          <a:ln w="0">
            <a:noFill/>
          </a:ln>
        </p:spPr>
      </p:pic>
      <p:sp>
        <p:nvSpPr>
          <p:cNvPr id="103" name="عنوان 1"/>
          <p:cNvSpPr/>
          <p:nvPr/>
        </p:nvSpPr>
        <p:spPr>
          <a:xfrm>
            <a:off x="324000" y="595008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له بدأ به ولا يقبل أي عمل إلا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6" name="عنوان 1"/>
          <p:cNvSpPr/>
          <p:nvPr/>
        </p:nvSpPr>
        <p:spPr>
          <a:xfrm>
            <a:off x="306360" y="3716280"/>
            <a:ext cx="856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صبر والعفو أفض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فيه أجر من الله تعالى عل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8545680" cy="1194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"/>
          <p:cNvPicPr/>
          <p:nvPr/>
        </p:nvPicPr>
        <p:blipFill>
          <a:blip r:embed="rId4"/>
          <a:stretch/>
        </p:blipFill>
        <p:spPr>
          <a:xfrm>
            <a:off x="1892160" y="3156120"/>
            <a:ext cx="5359680" cy="545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"/>
          <p:cNvPicPr/>
          <p:nvPr/>
        </p:nvPicPr>
        <p:blipFill>
          <a:blip r:embed="rId5"/>
          <a:stretch/>
        </p:blipFill>
        <p:spPr>
          <a:xfrm>
            <a:off x="2050920" y="3137040"/>
            <a:ext cx="5042160" cy="583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"/>
          <p:cNvPicPr/>
          <p:nvPr/>
        </p:nvPicPr>
        <p:blipFill>
          <a:blip r:embed="rId6"/>
          <a:stretch/>
        </p:blipFill>
        <p:spPr>
          <a:xfrm>
            <a:off x="3419640" y="4405320"/>
            <a:ext cx="436860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33200" y="1530360"/>
            <a:ext cx="887760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2813040" y="4565520"/>
            <a:ext cx="3517920" cy="507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24000" y="1471680"/>
            <a:ext cx="85500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250920" y="1089000"/>
            <a:ext cx="8642160" cy="565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642160" cy="3528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250920" y="2320920"/>
            <a:ext cx="8507160" cy="4421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250920" y="917640"/>
            <a:ext cx="8613720" cy="135900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50920" y="42926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ص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472428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زجرهما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229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اً لين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مستطيل 1"/>
          <p:cNvSpPr/>
          <p:nvPr/>
        </p:nvSpPr>
        <p:spPr>
          <a:xfrm>
            <a:off x="2124000" y="1700280"/>
            <a:ext cx="36036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5770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طيع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6237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تنفق المال في غير حق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جب الواجب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وحي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توحيد أوجب الواجب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أ الله تعالى 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حسان إلى الوالدين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66760" y="3068640"/>
            <a:ext cx="8666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عقوق الوالد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362412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زداد بر الوالدين والإحسان إليهما والتلطف معهم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ما تقدم بهما العم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403560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قول (أف) للوالد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 وهو من العقو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454968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كلمة (أف) على الوالدين من العقوق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ا تدل على التضج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505476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حقوق الآباء على الأبناء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دعاء لهم أحياء وأمواتاً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557676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غفرة الله تعالى تكون قريبة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هل الصلاح والإنابة والتوب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6081840"/>
            <a:ext cx="8665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حقوق ذوي القربى والمساكين وأبناء السبي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بر والإكرام لهم  ومنها ما هو واجب ومنها ما هو مسنو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ضل الإنفاق في سبيل الل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عاء الملكان ل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دل في الأمور والقسط في الإنفاق المتواز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بخل والتقتير والتبذير والإسراف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هي عن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66760" y="3068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ؤدي التبذي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ى الندم والحسرة وبقاء الإنسان فارغ اليد متعرضاً لسؤال الناس والتذلل ل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79280" y="3870360"/>
            <a:ext cx="8666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عطي الله ويمنع عن عباد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ة عظيمة يعلمها الله سبحانه و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9T23:03:32Z</dcterms:modified>
  <cp:revision>1971</cp:revision>
  <dc:subject/>
  <dc:title>عرض تقديمي في PowerPoint</dc:title>
</cp:coreProperties>
</file>